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9A36-15E7-4B9C-B207-1405E888C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9712-58BE-4810-94EF-8D5C408D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3502-021F-4C4B-BCD1-3D131D3E8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C77E-42A5-432B-A435-D431BEC62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FCE8-00A3-4FE1-83E6-8577F45F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9CB3-B4A2-4E64-985C-5F873E85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A846-A853-444B-894D-9F6DB605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ACBF-6FC1-4BD2-BF8B-8C901E81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28A3-5C90-43ED-8BE0-FC8AF805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1E92-4789-40D3-896D-47129F7D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8246-891F-4A80-921D-2086FD4A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0198-B344-4B4F-8D22-F0E5C45F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E1C5-2675-4BFA-9AA8-1694E0054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 –Day Invas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Andrew c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e of D-Da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started June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9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ended June 3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9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us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make the war a two front w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it hard for Germa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defend it 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ber of vess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,939 Vesse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213 War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,126 Transport 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36 Ancillary C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64 Merchant 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ber of soldier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826 atta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654 di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784 wound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00 para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bliograph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5:55:16Z</dcterms:created>
  <dc:creator>22003</dc:creator>
  <dc:description/>
  <dc:language>en-US</dc:language>
  <cp:lastModifiedBy>22003</cp:lastModifiedBy>
  <dcterms:modified xsi:type="dcterms:W3CDTF">2009-12-17T14:58:01Z</dcterms:modified>
  <cp:revision>5</cp:revision>
  <dc:subject/>
  <dc:title>D –Day Invasion </dc:title>
</cp:coreProperties>
</file>